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338-69DD-4F54-9577-06E13981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544-1DD0-47EF-B175-D50F207A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83F-AF67-434B-8979-849C7165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3D9-B9ED-43D6-B458-005380AB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A28-1F6B-4688-8F50-B20E587E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E64-D794-45C5-9844-FB64C1D4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019-749B-4CE4-8CEB-1A6FC3EB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EFD4-F137-4671-B984-EB4C7477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FF9-2180-48C7-A5D8-1727DD8F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7C5-B20E-42CB-87A5-A10A29D5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CB7-A5B9-4623-AC2F-3A988AC8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241-C099-4008-8596-40221ED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81B5-BF00-4B23-A83C-FD4687C98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Me llamo____________ 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     Clase 701</a:t>
            </a:r>
            <a:br>
              <a:rPr sz="3800"/>
            </a:b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La fecha es el 8 de enero del 20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4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el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Quiz 1: Capitulo 5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mañ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parts of the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317484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Line 10"/>
          <p:cNvSpPr/>
          <p:nvPr/>
        </p:nvSpPr>
        <p:spPr>
          <a:xfrm flipH="1">
            <a:off x="33526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4724280" y="5486400"/>
            <a:ext cx="22860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510552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5257800" y="5791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 flipV="1">
            <a:off x="2971800" y="4724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V="1">
            <a:off x="5715000" y="41144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 flipH="1">
            <a:off x="281952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 flipV="1">
            <a:off x="5791320" y="49525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971800" y="5410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514600" y="3505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6858000" y="472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2666880" y="4572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705720" y="6248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6400800" y="3886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6781680" y="5622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Vocabular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según el vocabulario ind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ego lanza el balón con __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fo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no lanza el balón con 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h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ambién lanza el balón con 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h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no lanza el balón con 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ego es un jugador muy bueno porque tiene ____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legs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fue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l futbo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¿Cuántos jugadores hay en el equipo de futbol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o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¿Cuántos tiempos hay en un partido de futbol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 ¿Quién guarda la portería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l port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Cuándo mete un gol el jugador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ando el balón entra en la porter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Qué marca un jugador cuando el balón entra en la portería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un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. En el estadio, ¿Qué indica el tabler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l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. ¿Cuándo queda empatado el tant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ando los dos equipos tienen el mismo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0 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5.4-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QUIZ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soccer vocabula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.162-165 (text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. 5.3-5.5 (work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3:46:55Z</dcterms:created>
  <dc:creator>Helen Zumaeta</dc:creator>
  <dc:description/>
  <dc:language>en-US</dc:language>
  <cp:lastModifiedBy>Helen Zumaeta</cp:lastModifiedBy>
  <cp:lastPrinted>2014-11-03T19:30:01Z</cp:lastPrinted>
  <dcterms:modified xsi:type="dcterms:W3CDTF">2015-01-08T21:00:34Z</dcterms:modified>
  <cp:revision>33</cp:revision>
  <dc:subject/>
  <dc:title>Me llamo____________  Clase 7 IL La fecha es el 4 de noviembre del 2010</dc:title>
</cp:coreProperties>
</file>